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34B6D-2BC7-41D3-A05A-89F9C6417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21078-DA67-4D3C-9B80-88778A77A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0CE5F-03B7-4288-B964-9583318AE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1403F-AE92-4E5E-8624-981FF75BC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78FDF-ACC5-409F-B273-1D238D231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048E7-3242-487B-8DF1-5AC686F15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6E51C-B9C0-40BE-8520-346A67E25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CF47E-8F88-4D30-AFAD-4A29548CA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4F1C8-4C4E-4D48-B2FC-CEBAE143A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2BE90-B99A-433E-B903-67D608896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89E8C-0611-45E9-B92B-257348E15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0A3E8-DF33-42CB-824C-2405511C0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D710E-BC13-4D80-B805-D5428C274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FAA86-4D45-4239-9403-CBC65BE4E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4D080-CB8D-4F61-AEC6-B0DD9FC27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FED16-EC28-480B-8DA2-DD2A6840B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29FB7-3F66-4320-B514-F9F49E582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7F7E7-D086-4FEB-8C27-1327D3AB4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7523E-83DB-434D-83D5-F40BF15C8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90086-5233-46DC-8B52-3F1C7394A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C1546-3F19-4D25-8BC6-356BCDA38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C5AB0-6CFE-418B-82E1-D49DA4129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0400" y="4231080"/>
            <a:ext cx="8669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04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628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1520" y="215892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82280" y="215892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0400" y="423108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1520" y="423108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82280" y="423108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320760" y="1235160"/>
            <a:ext cx="859464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204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7628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320400" y="4231080"/>
            <a:ext cx="8669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0400" y="4231080"/>
            <a:ext cx="8669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204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7628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51520" y="215892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182280" y="215892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320400" y="423108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51520" y="423108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182280" y="423108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0760" y="1235160"/>
            <a:ext cx="859464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04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628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0400" y="4231080"/>
            <a:ext cx="8669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2.jpeg"/><Relationship Id="rId12" Type="http://schemas.openxmlformats.org/officeDocument/2006/relationships/slideLayout" Target="../slideLayouts/slideLayout13.xml"/><Relationship Id="rId13" Type="http://schemas.openxmlformats.org/officeDocument/2006/relationships/slideLayout" Target="../slideLayouts/slideLayout14.xml"/><Relationship Id="rId14" Type="http://schemas.openxmlformats.org/officeDocument/2006/relationships/slideLayout" Target="../slideLayouts/slideLayout15.xml"/><Relationship Id="rId15" Type="http://schemas.openxmlformats.org/officeDocument/2006/relationships/slideLayout" Target="../slideLayouts/slideLayout16.xml"/><Relationship Id="rId16" Type="http://schemas.openxmlformats.org/officeDocument/2006/relationships/slideLayout" Target="../slideLayouts/slideLayout17.xml"/><Relationship Id="rId17" Type="http://schemas.openxmlformats.org/officeDocument/2006/relationships/slideLayout" Target="../slideLayouts/slideLayout18.xml"/><Relationship Id="rId18" Type="http://schemas.openxmlformats.org/officeDocument/2006/relationships/slideLayout" Target="../slideLayouts/slideLayout19.xml"/><Relationship Id="rId19" Type="http://schemas.openxmlformats.org/officeDocument/2006/relationships/slideLayout" Target="../slideLayouts/slideLayout20.xml"/><Relationship Id="rId20" Type="http://schemas.openxmlformats.org/officeDocument/2006/relationships/slideLayout" Target="../slideLayouts/slideLayout21.xml"/><Relationship Id="rId21" Type="http://schemas.openxmlformats.org/officeDocument/2006/relationships/slideLayout" Target="../slideLayouts/slideLayout22.xml"/><Relationship Id="rId22" Type="http://schemas.openxmlformats.org/officeDocument/2006/relationships/slideLayout" Target="../slideLayouts/slideLayout23.xml"/><Relationship Id="rId2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bkgrd idea 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4600" indent="-30132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6280" indent="-200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0">
            <a:hlinkClick r:id="" action="ppaction://hlinkshowjump?jump=previousslide"/>
          </p:cNvPr>
          <p:cNvSpPr/>
          <p:nvPr/>
        </p:nvSpPr>
        <p:spPr>
          <a:xfrm>
            <a:off x="7297560" y="6384960"/>
            <a:ext cx="5256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1">
            <a:hlinkClick r:id="" action="ppaction://hlinkshowjump?jump=nextslide"/>
          </p:cNvPr>
          <p:cNvSpPr/>
          <p:nvPr/>
        </p:nvSpPr>
        <p:spPr>
          <a:xfrm>
            <a:off x="7942320" y="6384960"/>
            <a:ext cx="5252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7">
            <a:hlinkClick r:id="" action="ppaction://hlinkshowjump?jump=endshow"/>
          </p:cNvPr>
          <p:cNvSpPr/>
          <p:nvPr/>
        </p:nvSpPr>
        <p:spPr>
          <a:xfrm>
            <a:off x="343080" y="6303960"/>
            <a:ext cx="7124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8"/>
          <p:cNvSpPr/>
          <p:nvPr/>
        </p:nvSpPr>
        <p:spPr>
          <a:xfrm>
            <a:off x="1582560" y="6303960"/>
            <a:ext cx="7128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9"/>
          <p:cNvSpPr/>
          <p:nvPr/>
        </p:nvSpPr>
        <p:spPr>
          <a:xfrm>
            <a:off x="2857680" y="6303960"/>
            <a:ext cx="9842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20"/>
          <p:cNvSpPr/>
          <p:nvPr/>
        </p:nvSpPr>
        <p:spPr>
          <a:xfrm>
            <a:off x="4448160" y="6303960"/>
            <a:ext cx="17766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5">
            <a:hlinkClick r:id="" action="ppaction://hlinkshowjump?jump=previousslide"/>
          </p:cNvPr>
          <p:cNvSpPr/>
          <p:nvPr/>
        </p:nvSpPr>
        <p:spPr>
          <a:xfrm>
            <a:off x="7297560" y="6384960"/>
            <a:ext cx="5256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>
            <a:hlinkClick r:id="" action="ppaction://hlinkshowjump?jump=nextslide"/>
          </p:cNvPr>
          <p:cNvSpPr/>
          <p:nvPr/>
        </p:nvSpPr>
        <p:spPr>
          <a:xfrm>
            <a:off x="7942320" y="6384960"/>
            <a:ext cx="5252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section 1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white glow"/>
          <p:cNvPicPr/>
          <p:nvPr/>
        </p:nvPicPr>
        <p:blipFill>
          <a:blip r:embed="rId3"/>
          <a:stretch/>
        </p:blipFill>
        <p:spPr>
          <a:xfrm>
            <a:off x="469800" y="2952720"/>
            <a:ext cx="457200" cy="360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white glow"/>
          <p:cNvPicPr/>
          <p:nvPr/>
        </p:nvPicPr>
        <p:blipFill>
          <a:blip r:embed="rId4"/>
          <a:stretch/>
        </p:blipFill>
        <p:spPr>
          <a:xfrm>
            <a:off x="3035160" y="1914480"/>
            <a:ext cx="457200" cy="360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white glow"/>
          <p:cNvPicPr/>
          <p:nvPr/>
        </p:nvPicPr>
        <p:blipFill>
          <a:blip r:embed="rId5"/>
          <a:stretch/>
        </p:blipFill>
        <p:spPr>
          <a:xfrm>
            <a:off x="1633680" y="3516480"/>
            <a:ext cx="304560" cy="239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white glow"/>
          <p:cNvPicPr/>
          <p:nvPr/>
        </p:nvPicPr>
        <p:blipFill>
          <a:blip r:embed="rId6"/>
          <a:stretch/>
        </p:blipFill>
        <p:spPr>
          <a:xfrm>
            <a:off x="2808360" y="3103560"/>
            <a:ext cx="304560" cy="239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white glow"/>
          <p:cNvPicPr/>
          <p:nvPr/>
        </p:nvPicPr>
        <p:blipFill>
          <a:blip r:embed="rId7"/>
          <a:stretch/>
        </p:blipFill>
        <p:spPr>
          <a:xfrm>
            <a:off x="3773520" y="3019320"/>
            <a:ext cx="262080" cy="206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white glow"/>
          <p:cNvPicPr/>
          <p:nvPr/>
        </p:nvPicPr>
        <p:blipFill>
          <a:blip r:embed="rId8"/>
          <a:stretch/>
        </p:blipFill>
        <p:spPr>
          <a:xfrm>
            <a:off x="4017960" y="2951280"/>
            <a:ext cx="262080" cy="206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white glow"/>
          <p:cNvPicPr/>
          <p:nvPr/>
        </p:nvPicPr>
        <p:blipFill>
          <a:blip r:embed="rId9"/>
          <a:stretch/>
        </p:blipFill>
        <p:spPr>
          <a:xfrm>
            <a:off x="4626000" y="2949480"/>
            <a:ext cx="262080" cy="206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" descr="white glow"/>
          <p:cNvPicPr/>
          <p:nvPr/>
        </p:nvPicPr>
        <p:blipFill>
          <a:blip r:embed="rId10"/>
          <a:stretch/>
        </p:blipFill>
        <p:spPr>
          <a:xfrm>
            <a:off x="4836960" y="3016080"/>
            <a:ext cx="262080" cy="206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6"/>
          <p:cNvSpPr/>
          <p:nvPr/>
        </p:nvSpPr>
        <p:spPr>
          <a:xfrm>
            <a:off x="5431680" y="65736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pter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7"/>
          <p:cNvSpPr/>
          <p:nvPr/>
        </p:nvSpPr>
        <p:spPr>
          <a:xfrm>
            <a:off x="5433120" y="1096920"/>
            <a:ext cx="292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b05"/>
                </a:solidFill>
                <a:latin typeface="Arial"/>
              </a:rPr>
              <a:t>Basic Economic</a:t>
            </a:r>
            <a:br>
              <a:rPr sz="2800"/>
            </a:br>
            <a:r>
              <a:rPr b="1" lang="en-US" sz="2800" spc="-1" strike="noStrike">
                <a:solidFill>
                  <a:srgbClr val="ffcb05"/>
                </a:solidFill>
                <a:latin typeface="Arial"/>
              </a:rPr>
              <a:t>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8"/>
          <p:cNvSpPr/>
          <p:nvPr/>
        </p:nvSpPr>
        <p:spPr>
          <a:xfrm>
            <a:off x="5430240" y="220824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tion 1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9"/>
          <p:cNvSpPr/>
          <p:nvPr/>
        </p:nvSpPr>
        <p:spPr>
          <a:xfrm>
            <a:off x="5433480" y="2647800"/>
            <a:ext cx="296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b05"/>
                </a:solidFill>
                <a:latin typeface="Arial"/>
              </a:rPr>
              <a:t>A Look at Wants</a:t>
            </a:r>
            <a:br>
              <a:rPr sz="2800"/>
            </a:br>
            <a:r>
              <a:rPr b="1" lang="en-US" sz="2800" spc="-1" strike="noStrike">
                <a:solidFill>
                  <a:srgbClr val="ffcb05"/>
                </a:solidFill>
                <a:latin typeface="Arial"/>
              </a:rPr>
              <a:t>and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1">
            <a:hlinkClick r:id="" action="ppaction://hlinkshowjump?jump=endshow"/>
          </p:cNvPr>
          <p:cNvSpPr/>
          <p:nvPr/>
        </p:nvSpPr>
        <p:spPr>
          <a:xfrm>
            <a:off x="6118200" y="3938760"/>
            <a:ext cx="227808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2"/>
          <p:cNvSpPr/>
          <p:nvPr/>
        </p:nvSpPr>
        <p:spPr>
          <a:xfrm>
            <a:off x="6118200" y="4957920"/>
            <a:ext cx="227808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3"/>
          <p:cNvSpPr/>
          <p:nvPr/>
        </p:nvSpPr>
        <p:spPr>
          <a:xfrm>
            <a:off x="6118200" y="5477040"/>
            <a:ext cx="227808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8"/>
          <p:cNvSpPr/>
          <p:nvPr/>
        </p:nvSpPr>
        <p:spPr>
          <a:xfrm>
            <a:off x="6118200" y="4448160"/>
            <a:ext cx="22780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4600" indent="-30132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6280" indent="-200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2"/>
    <p:sldLayoutId id="2147483663" r:id="rId13"/>
    <p:sldLayoutId id="2147483664" r:id="rId14"/>
    <p:sldLayoutId id="2147483665" r:id="rId15"/>
    <p:sldLayoutId id="2147483666" r:id="rId16"/>
    <p:sldLayoutId id="2147483667" r:id="rId17"/>
    <p:sldLayoutId id="2147483668" r:id="rId18"/>
    <p:sldLayoutId id="2147483669" r:id="rId19"/>
    <p:sldLayoutId id="2147483670" r:id="rId20"/>
    <p:sldLayoutId id="2147483671" r:id="rId21"/>
    <p:sldLayoutId id="2147483672" r:id="rId22"/>
    <p:sldLayoutId id="2147483673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6" descr="reading guide copy"/>
          <p:cNvPicPr/>
          <p:nvPr/>
        </p:nvPicPr>
        <p:blipFill>
          <a:blip r:embed="rId1"/>
          <a:stretch/>
        </p:blipFill>
        <p:spPr>
          <a:xfrm>
            <a:off x="420840" y="1195560"/>
            <a:ext cx="8467560" cy="50115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1094760" y="20970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00"/>
                </a:solidFill>
                <a:latin typeface="Arial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968400" y="2579760"/>
            <a:ext cx="7143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1093680" y="2565360"/>
            <a:ext cx="7112160" cy="53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10000"/>
              </a:lnSpc>
              <a:spcBef>
                <a:spcPts val="2401"/>
              </a:spcBef>
              <a:spcAft>
                <a:spcPts val="300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difference between needs and w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110000"/>
              </a:lnSpc>
              <a:spcBef>
                <a:spcPts val="2401"/>
              </a:spcBef>
              <a:spcAft>
                <a:spcPts val="300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inguish between goods an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110000"/>
              </a:lnSpc>
              <a:spcBef>
                <a:spcPts val="2401"/>
              </a:spcBef>
              <a:spcAft>
                <a:spcPts val="300"/>
              </a:spcAft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types of economic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110000"/>
              </a:lnSpc>
              <a:spcBef>
                <a:spcPts val="2401"/>
              </a:spcBef>
              <a:spcAft>
                <a:spcPts val="300"/>
              </a:spcAft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sential Question – what are economic resour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110000"/>
              </a:lnSpc>
              <a:spcBef>
                <a:spcPts val="2401"/>
              </a:spcBef>
              <a:spcAft>
                <a:spcPts val="300"/>
              </a:spcAft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110000"/>
              </a:lnSpc>
              <a:spcBef>
                <a:spcPts val="2401"/>
              </a:spcBef>
              <a:spcAft>
                <a:spcPts val="300"/>
              </a:spcAft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110000"/>
              </a:lnSpc>
              <a:spcBef>
                <a:spcPts val="2401"/>
              </a:spcBef>
              <a:spcAft>
                <a:spcPts val="300"/>
              </a:spcAft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0400" y="1235160"/>
            <a:ext cx="863892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How Resources Limit the Ability to Satisfy Wants and Needs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0760" y="2394000"/>
            <a:ext cx="39528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one has enough </a:t>
            </a: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resour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satisfy all of their wa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key term box copy"/>
          <p:cNvPicPr/>
          <p:nvPr/>
        </p:nvPicPr>
        <p:blipFill>
          <a:blip r:embed="rId1"/>
          <a:stretch/>
        </p:blipFill>
        <p:spPr>
          <a:xfrm>
            <a:off x="4624560" y="1909800"/>
            <a:ext cx="4378320" cy="41832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6"/>
          <p:cNvSpPr/>
          <p:nvPr/>
        </p:nvSpPr>
        <p:spPr>
          <a:xfrm>
            <a:off x="4932360" y="27208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3d"/>
                </a:solidFill>
                <a:latin typeface="Arial"/>
              </a:rPr>
              <a:t>Economic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 means through which goods and services are produce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Three types of economic resources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nomic resources are call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actors of production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3 kinds of economic resource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ital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1. Natural Resources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w materials supplied by n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2. Human Resources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producing goods and servi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3. Capital Resources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must have access to tools and equipment in order to convert natural resources into product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ital resources include buildings, equipment, supplies, and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include $$$$$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3322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a factory, buy a truck, pay employ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40000"/>
                </a:solidFill>
                <a:latin typeface="Arial"/>
              </a:rPr>
              <a:t>Factors of Production and SpaghettiOs</a:t>
            </a:r>
            <a:endParaRPr b="1" lang="en-US" sz="2800" spc="-1" strike="noStrike">
              <a:solidFill>
                <a:srgbClr val="b40000"/>
              </a:solidFill>
              <a:latin typeface="Arial"/>
            </a:endParaRPr>
          </a:p>
        </p:txBody>
      </p:sp>
      <p:grpSp>
        <p:nvGrpSpPr>
          <p:cNvPr id="165" name="Group 10"/>
          <p:cNvGrpSpPr/>
          <p:nvPr/>
        </p:nvGrpSpPr>
        <p:grpSpPr>
          <a:xfrm>
            <a:off x="0" y="2495520"/>
            <a:ext cx="2876400" cy="2895480"/>
            <a:chOff x="0" y="2495520"/>
            <a:chExt cx="2876400" cy="2895480"/>
          </a:xfrm>
        </p:grpSpPr>
        <p:sp>
          <p:nvSpPr>
            <p:cNvPr id="166" name="Oval 4"/>
            <p:cNvSpPr/>
            <p:nvPr/>
          </p:nvSpPr>
          <p:spPr>
            <a:xfrm>
              <a:off x="0" y="2495520"/>
              <a:ext cx="2876400" cy="2895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7"/>
            <p:cNvSpPr/>
            <p:nvPr/>
          </p:nvSpPr>
          <p:spPr>
            <a:xfrm>
              <a:off x="743040" y="2857680"/>
              <a:ext cx="139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Natur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11"/>
          <p:cNvGrpSpPr/>
          <p:nvPr/>
        </p:nvGrpSpPr>
        <p:grpSpPr>
          <a:xfrm>
            <a:off x="3105000" y="2495520"/>
            <a:ext cx="2781360" cy="2838600"/>
            <a:chOff x="3105000" y="2495520"/>
            <a:chExt cx="2781360" cy="2838600"/>
          </a:xfrm>
        </p:grpSpPr>
        <p:sp>
          <p:nvSpPr>
            <p:cNvPr id="169" name="Oval 5"/>
            <p:cNvSpPr/>
            <p:nvPr/>
          </p:nvSpPr>
          <p:spPr>
            <a:xfrm>
              <a:off x="3105000" y="2495520"/>
              <a:ext cx="2781360" cy="283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8"/>
            <p:cNvSpPr/>
            <p:nvPr/>
          </p:nvSpPr>
          <p:spPr>
            <a:xfrm>
              <a:off x="3848040" y="2895480"/>
              <a:ext cx="139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uma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12"/>
          <p:cNvGrpSpPr/>
          <p:nvPr/>
        </p:nvGrpSpPr>
        <p:grpSpPr>
          <a:xfrm>
            <a:off x="6362640" y="2514600"/>
            <a:ext cx="2781360" cy="2838600"/>
            <a:chOff x="6362640" y="2514600"/>
            <a:chExt cx="2781360" cy="2838600"/>
          </a:xfrm>
        </p:grpSpPr>
        <p:sp>
          <p:nvSpPr>
            <p:cNvPr id="172" name="Oval 6"/>
            <p:cNvSpPr/>
            <p:nvPr/>
          </p:nvSpPr>
          <p:spPr>
            <a:xfrm>
              <a:off x="6362640" y="2514600"/>
              <a:ext cx="2781360" cy="283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9"/>
            <p:cNvSpPr/>
            <p:nvPr/>
          </p:nvSpPr>
          <p:spPr>
            <a:xfrm>
              <a:off x="7067520" y="2857680"/>
              <a:ext cx="139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13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Make the Most of Your Resources Because Our Resources are Limited</a:t>
            </a:r>
            <a:br>
              <a:rPr sz="3200"/>
            </a:b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0400" y="2762280"/>
            <a:ext cx="8669160" cy="33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make the most of your resources by making careful decisions about what to bu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ethics in business copy"/>
          <p:cNvPicPr/>
          <p:nvPr/>
        </p:nvPicPr>
        <p:blipFill>
          <a:blip r:embed="rId1"/>
          <a:stretch/>
        </p:blipFill>
        <p:spPr>
          <a:xfrm>
            <a:off x="493560" y="1273320"/>
            <a:ext cx="7958160" cy="486540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>
            <a:off x="1039680" y="2077920"/>
            <a:ext cx="7182000" cy="25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work as an event planner for a local company. You are in charge of hiring a caterer for the company’s 10th anniversary celebration. You have bids from four caterers in town. One of the bids is from a caterer who is an old friend. His bid is higher than the three oth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1039680" y="4602240"/>
            <a:ext cx="71820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00"/>
                </a:solidFill>
                <a:latin typeface="Arial"/>
              </a:rPr>
              <a:t>Decision Mak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Would your relationship with the caterer affect which company you would hire? Explain your ans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ethics in business copy"/>
          <p:cNvPicPr/>
          <p:nvPr/>
        </p:nvPicPr>
        <p:blipFill>
          <a:blip r:embed="rId1"/>
          <a:stretch/>
        </p:blipFill>
        <p:spPr>
          <a:xfrm>
            <a:off x="493560" y="1273320"/>
            <a:ext cx="7958160" cy="48654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3"/>
          <p:cNvSpPr/>
          <p:nvPr/>
        </p:nvSpPr>
        <p:spPr>
          <a:xfrm>
            <a:off x="1039680" y="2440080"/>
            <a:ext cx="7182000" cy="26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00"/>
                </a:solidFill>
                <a:latin typeface="Arial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ent planner should recluse himself or herself from the decision-making process due to the conflict of interest. The employee has an ethical obligation to act in the best interests of the comp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????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ould a resource be used for one product result in a limited supply for another?  Give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reading guide copy"/>
          <p:cNvPicPr/>
          <p:nvPr/>
        </p:nvPicPr>
        <p:blipFill>
          <a:blip r:embed="rId1"/>
          <a:stretch/>
        </p:blipFill>
        <p:spPr>
          <a:xfrm>
            <a:off x="420840" y="1195560"/>
            <a:ext cx="8467560" cy="501156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3"/>
          <p:cNvSpPr/>
          <p:nvPr/>
        </p:nvSpPr>
        <p:spPr>
          <a:xfrm>
            <a:off x="1093680" y="209700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00"/>
                </a:solidFill>
                <a:latin typeface="Arial"/>
              </a:rPr>
              <a:t>The Main 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968400" y="2579760"/>
            <a:ext cx="7143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1093680" y="2565360"/>
            <a:ext cx="722952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es make money by offering goods and services to satisfy the wants and needs of consumers and other businesses. In this way, wants and needs drive the U.S. econom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section review copy"/>
          <p:cNvPicPr/>
          <p:nvPr/>
        </p:nvPicPr>
        <p:blipFill>
          <a:blip r:embed="rId1"/>
          <a:stretch/>
        </p:blipFill>
        <p:spPr>
          <a:xfrm>
            <a:off x="465120" y="1214280"/>
            <a:ext cx="8496360" cy="50292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003320" y="2367000"/>
            <a:ext cx="715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23408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408f"/>
                </a:solidFill>
                <a:latin typeface="Arial"/>
              </a:rPr>
              <a:t>Describe the differences between a good and a service.  Which is tangible and which is intangi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1003320" y="3597120"/>
            <a:ext cx="7157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00"/>
                </a:solidFill>
                <a:latin typeface="Arial"/>
              </a:rPr>
              <a:t>A good is a product that is tangible, or can be touch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00"/>
                </a:solidFill>
                <a:latin typeface="Arial"/>
              </a:rPr>
              <a:t>A service is something that is offered for our benefit.  It isintang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section review copy"/>
          <p:cNvPicPr/>
          <p:nvPr/>
        </p:nvPicPr>
        <p:blipFill>
          <a:blip r:embed="rId1"/>
          <a:stretch/>
        </p:blipFill>
        <p:spPr>
          <a:xfrm>
            <a:off x="465120" y="1214280"/>
            <a:ext cx="8496360" cy="50292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3"/>
          <p:cNvSpPr/>
          <p:nvPr/>
        </p:nvSpPr>
        <p:spPr>
          <a:xfrm>
            <a:off x="1003320" y="2367000"/>
            <a:ext cx="71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23408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408f"/>
                </a:solidFill>
                <a:latin typeface="Arial"/>
              </a:rPr>
              <a:t>Define resour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1003320" y="3100320"/>
            <a:ext cx="715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00"/>
                </a:solidFill>
                <a:latin typeface="Arial"/>
              </a:rPr>
              <a:t>Resources are items people use to make or obtain what they need or want. Examples of resources include money, fuel, and lab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Chapter 1.2.  Page 12.  OBJECTIVES: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the basic economic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the steps in the decision-making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sential Question:  How do we use the decision making process in our daily activ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0400" y="1235160"/>
            <a:ext cx="863892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The Basic Economic Problem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20760" y="2394000"/>
            <a:ext cx="39528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s and businesses have unlimited wants and needs….this leads to a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key term box copy"/>
          <p:cNvPicPr/>
          <p:nvPr/>
        </p:nvPicPr>
        <p:blipFill>
          <a:blip r:embed="rId1"/>
          <a:stretch/>
        </p:blipFill>
        <p:spPr>
          <a:xfrm>
            <a:off x="4624560" y="1909800"/>
            <a:ext cx="4378320" cy="41832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6"/>
          <p:cNvSpPr/>
          <p:nvPr/>
        </p:nvSpPr>
        <p:spPr>
          <a:xfrm>
            <a:off x="4932360" y="27208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3d"/>
                </a:solidFill>
                <a:latin typeface="Arial"/>
              </a:rPr>
              <a:t>Scar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having enough resources to satisfy every n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0400" y="1235160"/>
            <a:ext cx="863892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The Basic Economic Problem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20760" y="1765080"/>
            <a:ext cx="3952800" cy="47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earn $75 a week at a part time job.  Do you spend it all on a new pair of kicks or save it so you have money for movie and pizza on Satur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5" descr="key term box copy"/>
          <p:cNvPicPr/>
          <p:nvPr/>
        </p:nvPicPr>
        <p:blipFill>
          <a:blip r:embed="rId1"/>
          <a:stretch/>
        </p:blipFill>
        <p:spPr>
          <a:xfrm>
            <a:off x="4624560" y="1909800"/>
            <a:ext cx="4378320" cy="41832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6"/>
          <p:cNvSpPr/>
          <p:nvPr/>
        </p:nvSpPr>
        <p:spPr>
          <a:xfrm>
            <a:off x="4932360" y="2720880"/>
            <a:ext cx="3733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3d"/>
                </a:solidFill>
                <a:latin typeface="Arial"/>
              </a:rPr>
              <a:t>Economic decision-m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cess of choosing which wants, among several options, will be satisfie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Tradeoffs and Opportunity Costs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ing that we must make choices all the time, we are making tradeoffs…we have to give up something in order to get something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0400" y="1235160"/>
            <a:ext cx="863892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Tradeoffs and Opportunity Costs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20400" y="1906560"/>
            <a:ext cx="4303800" cy="40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didn’t buy the new pair of shoes so you could go to the movies and get pizza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tradeo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buying the shoes so you could have pizza/mov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5" descr="key term box copy"/>
          <p:cNvPicPr/>
          <p:nvPr/>
        </p:nvPicPr>
        <p:blipFill>
          <a:blip r:embed="rId1"/>
          <a:stretch/>
        </p:blipFill>
        <p:spPr>
          <a:xfrm>
            <a:off x="4624560" y="1909800"/>
            <a:ext cx="4378320" cy="41832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6"/>
          <p:cNvSpPr/>
          <p:nvPr/>
        </p:nvSpPr>
        <p:spPr>
          <a:xfrm>
            <a:off x="4781520" y="2720880"/>
            <a:ext cx="422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3d"/>
                </a:solidFill>
                <a:latin typeface="Arial"/>
              </a:rPr>
              <a:t>trade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you give up something to have something el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20400" y="1235160"/>
            <a:ext cx="863892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Tradeoffs and Opportunity Costs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680" y="1784160"/>
            <a:ext cx="4322880" cy="37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conomists evaluate an alternative by considering the opportunity cost of a dec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enjoyment of owning the shoes was the opportunity co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5" descr="key term box copy"/>
          <p:cNvPicPr/>
          <p:nvPr/>
        </p:nvPicPr>
        <p:blipFill>
          <a:blip r:embed="rId1"/>
          <a:stretch/>
        </p:blipFill>
        <p:spPr>
          <a:xfrm>
            <a:off x="4624560" y="1909800"/>
            <a:ext cx="4378320" cy="41832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6"/>
          <p:cNvSpPr/>
          <p:nvPr/>
        </p:nvSpPr>
        <p:spPr>
          <a:xfrm>
            <a:off x="4932360" y="27208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3d"/>
                </a:solidFill>
                <a:latin typeface="Arial"/>
              </a:rPr>
              <a:t>Opportunity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value of the next-best alternative that you did not cho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Opportunity Cost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enefit you get from your choice should be greater than the benefit from the next-best choice that you didn’t choos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s humans always try to make the best choice to benefit ourselves, naturall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Opportunity Cost example 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erson decides to quit his or her job and go back to school to increase their future earning potential.  What is the opp co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erson decides to remain employed and not return to school to get a college degree.  What is the opp cost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9"/>
          <p:cNvSpPr/>
          <p:nvPr/>
        </p:nvSpPr>
        <p:spPr>
          <a:xfrm>
            <a:off x="1639800" y="3676680"/>
            <a:ext cx="5413320" cy="1936800"/>
          </a:xfrm>
          <a:prstGeom prst="roundRect">
            <a:avLst>
              <a:gd name="adj" fmla="val 8194"/>
            </a:avLst>
          </a:prstGeom>
          <a:solidFill>
            <a:srgbClr val="ffffff"/>
          </a:solidFill>
          <a:ln w="38160">
            <a:solidFill>
              <a:srgbClr val="2340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1832040" y="4654440"/>
            <a:ext cx="50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f these things do you want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do you ne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Graphic Organizer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400" y="2158560"/>
            <a:ext cx="866916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se you had $10. You could buy lunch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go to a mov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4"/>
          <p:cNvSpPr/>
          <p:nvPr/>
        </p:nvSpPr>
        <p:spPr>
          <a:xfrm>
            <a:off x="1955880" y="3875040"/>
            <a:ext cx="2111400" cy="587520"/>
          </a:xfrm>
          <a:prstGeom prst="roundRect">
            <a:avLst>
              <a:gd name="adj" fmla="val 16667"/>
            </a:avLst>
          </a:prstGeom>
          <a:solidFill>
            <a:srgbClr val="23408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u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5"/>
          <p:cNvSpPr/>
          <p:nvPr/>
        </p:nvSpPr>
        <p:spPr>
          <a:xfrm>
            <a:off x="4672080" y="3892680"/>
            <a:ext cx="2111400" cy="587160"/>
          </a:xfrm>
          <a:prstGeom prst="roundRect">
            <a:avLst>
              <a:gd name="adj" fmla="val 16667"/>
            </a:avLst>
          </a:prstGeom>
          <a:solidFill>
            <a:srgbClr val="23408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v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18"/>
          <p:cNvGrpSpPr/>
          <p:nvPr/>
        </p:nvGrpSpPr>
        <p:grpSpPr>
          <a:xfrm>
            <a:off x="382680" y="3728880"/>
            <a:ext cx="1557360" cy="932040"/>
            <a:chOff x="382680" y="3728880"/>
            <a:chExt cx="1557360" cy="932040"/>
          </a:xfrm>
        </p:grpSpPr>
        <p:sp>
          <p:nvSpPr>
            <p:cNvPr id="124" name="Oval 14"/>
            <p:cNvSpPr/>
            <p:nvPr/>
          </p:nvSpPr>
          <p:spPr>
            <a:xfrm>
              <a:off x="382680" y="3728880"/>
              <a:ext cx="931680" cy="932040"/>
            </a:xfrm>
            <a:prstGeom prst="ellipse">
              <a:avLst/>
            </a:prstGeom>
            <a:solidFill>
              <a:srgbClr val="b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e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16"/>
            <p:cNvSpPr/>
            <p:nvPr/>
          </p:nvSpPr>
          <p:spPr>
            <a:xfrm>
              <a:off x="1314360" y="4173480"/>
              <a:ext cx="625680" cy="0"/>
            </a:xfrm>
            <a:prstGeom prst="line">
              <a:avLst/>
            </a:prstGeom>
            <a:ln w="66600">
              <a:solidFill>
                <a:srgbClr val="b4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19"/>
          <p:cNvGrpSpPr/>
          <p:nvPr/>
        </p:nvGrpSpPr>
        <p:grpSpPr>
          <a:xfrm>
            <a:off x="6789600" y="3700440"/>
            <a:ext cx="1557360" cy="932040"/>
            <a:chOff x="6789600" y="3700440"/>
            <a:chExt cx="1557360" cy="932040"/>
          </a:xfrm>
        </p:grpSpPr>
        <p:sp>
          <p:nvSpPr>
            <p:cNvPr id="127" name="Oval 15"/>
            <p:cNvSpPr/>
            <p:nvPr/>
          </p:nvSpPr>
          <p:spPr>
            <a:xfrm>
              <a:off x="7415280" y="3700440"/>
              <a:ext cx="931680" cy="932040"/>
            </a:xfrm>
            <a:prstGeom prst="ellipse">
              <a:avLst/>
            </a:prstGeom>
            <a:solidFill>
              <a:srgbClr val="b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Wa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7"/>
            <p:cNvSpPr/>
            <p:nvPr/>
          </p:nvSpPr>
          <p:spPr>
            <a:xfrm>
              <a:off x="6789600" y="4173480"/>
              <a:ext cx="625680" cy="0"/>
            </a:xfrm>
            <a:prstGeom prst="line">
              <a:avLst/>
            </a:prstGeom>
            <a:ln w="66600">
              <a:solidFill>
                <a:srgbClr val="b4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Opportunity Cost example 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city decides to build a hospital on vacant land it owns, what is the opp co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 -  the opportunity cost is the value of the benefits forgone of the next best thing that might have been done with the land and construction funds inste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Class assignment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1854360"/>
            <a:ext cx="898992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a piece of paper, name at the top, list TEN situations where there is an opportunity cost pres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to me what the opportunity cost is in each situatio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– I chose to stay late at school and miss the chance to ride bikes with my son.  The opportunity cost is me having fun with my s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Choices…we’ve all made bad ones: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320400" y="2158920"/>
            <a:ext cx="8669160" cy="39672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"/>
          <p:cNvPicPr/>
          <p:nvPr/>
        </p:nvPicPr>
        <p:blipFill>
          <a:blip r:embed="rId2"/>
          <a:stretch/>
        </p:blipFill>
        <p:spPr>
          <a:xfrm>
            <a:off x="895320" y="2000160"/>
            <a:ext cx="7086600" cy="4762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065320" y="1235160"/>
            <a:ext cx="623880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The Decision-Making Process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pic>
        <p:nvPicPr>
          <p:cNvPr id="221" name="Picture 3" descr="boxes"/>
          <p:cNvPicPr/>
          <p:nvPr/>
        </p:nvPicPr>
        <p:blipFill>
          <a:blip r:embed="rId1"/>
          <a:stretch/>
        </p:blipFill>
        <p:spPr>
          <a:xfrm>
            <a:off x="3179880" y="1863720"/>
            <a:ext cx="5589360" cy="439596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4"/>
          <p:cNvSpPr/>
          <p:nvPr/>
        </p:nvSpPr>
        <p:spPr>
          <a:xfrm>
            <a:off x="2090880" y="20494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408f"/>
                </a:solidFill>
                <a:latin typeface="Arial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2090880" y="29084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408f"/>
                </a:solidFill>
                <a:latin typeface="Arial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2090880" y="3814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408f"/>
                </a:solidFill>
                <a:latin typeface="Arial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2090880" y="46656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408f"/>
                </a:solidFill>
                <a:latin typeface="Arial"/>
              </a:rPr>
              <a:t>Step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8"/>
          <p:cNvSpPr/>
          <p:nvPr/>
        </p:nvSpPr>
        <p:spPr>
          <a:xfrm>
            <a:off x="2090880" y="5553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408f"/>
                </a:solidFill>
                <a:latin typeface="Arial"/>
              </a:rPr>
              <a:t>Step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9"/>
          <p:cNvSpPr/>
          <p:nvPr/>
        </p:nvSpPr>
        <p:spPr>
          <a:xfrm>
            <a:off x="3335400" y="5464080"/>
            <a:ext cx="5278320" cy="569880"/>
          </a:xfrm>
          <a:prstGeom prst="roundRect">
            <a:avLst>
              <a:gd name="adj" fmla="val 1588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 on your cho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10"/>
          <p:cNvSpPr/>
          <p:nvPr/>
        </p:nvSpPr>
        <p:spPr>
          <a:xfrm>
            <a:off x="3335400" y="1984320"/>
            <a:ext cx="5278320" cy="569880"/>
          </a:xfrm>
          <a:prstGeom prst="roundRect">
            <a:avLst>
              <a:gd name="adj" fmla="val 1588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he prob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1"/>
          <p:cNvSpPr/>
          <p:nvPr/>
        </p:nvSpPr>
        <p:spPr>
          <a:xfrm>
            <a:off x="3335400" y="2863800"/>
            <a:ext cx="5278320" cy="569880"/>
          </a:xfrm>
          <a:prstGeom prst="roundRect">
            <a:avLst>
              <a:gd name="adj" fmla="val 1588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cho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2"/>
          <p:cNvSpPr/>
          <p:nvPr/>
        </p:nvSpPr>
        <p:spPr>
          <a:xfrm>
            <a:off x="3335400" y="3727440"/>
            <a:ext cx="5278320" cy="569880"/>
          </a:xfrm>
          <a:prstGeom prst="roundRect">
            <a:avLst>
              <a:gd name="adj" fmla="val 1588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the advantage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dvantages of ea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13"/>
          <p:cNvSpPr/>
          <p:nvPr/>
        </p:nvSpPr>
        <p:spPr>
          <a:xfrm>
            <a:off x="3335400" y="4600440"/>
            <a:ext cx="5278320" cy="569880"/>
          </a:xfrm>
          <a:prstGeom prst="roundRect">
            <a:avLst>
              <a:gd name="adj" fmla="val 1588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14"/>
          <p:cNvSpPr/>
          <p:nvPr/>
        </p:nvSpPr>
        <p:spPr>
          <a:xfrm>
            <a:off x="284040" y="1270080"/>
            <a:ext cx="1422360" cy="541080"/>
          </a:xfrm>
          <a:prstGeom prst="roundRect">
            <a:avLst>
              <a:gd name="adj" fmla="val 35157"/>
            </a:avLst>
          </a:prstGeom>
          <a:solidFill>
            <a:srgbClr val="23408f"/>
          </a:solidFill>
          <a:ln w="50760">
            <a:solidFill>
              <a:srgbClr val="9ed3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b05"/>
                </a:solidFill>
                <a:latin typeface="Arial"/>
              </a:rPr>
              <a:t>Figure 1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4"/>
          <p:cNvSpPr/>
          <p:nvPr/>
        </p:nvSpPr>
        <p:spPr>
          <a:xfrm>
            <a:off x="2038320" y="5886360"/>
            <a:ext cx="590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408f"/>
                </a:solidFill>
                <a:latin typeface="Arial"/>
              </a:rPr>
              <a:t>Step 6- Review  Your dec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section review copy"/>
          <p:cNvPicPr/>
          <p:nvPr/>
        </p:nvPicPr>
        <p:blipFill>
          <a:blip r:embed="rId1"/>
          <a:stretch/>
        </p:blipFill>
        <p:spPr>
          <a:xfrm>
            <a:off x="465120" y="1214280"/>
            <a:ext cx="8496360" cy="502920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3"/>
          <p:cNvSpPr/>
          <p:nvPr/>
        </p:nvSpPr>
        <p:spPr>
          <a:xfrm>
            <a:off x="1003320" y="2367000"/>
            <a:ext cx="71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408f"/>
                </a:solidFill>
                <a:latin typeface="Arial"/>
              </a:rPr>
              <a:t>1.  What is scarc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1003320" y="3517920"/>
            <a:ext cx="715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00"/>
                </a:solidFill>
                <a:latin typeface="Arial"/>
              </a:rPr>
              <a:t>It is when you don’t have enough resources to satisfy all of your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section review copy"/>
          <p:cNvPicPr/>
          <p:nvPr/>
        </p:nvPicPr>
        <p:blipFill>
          <a:blip r:embed="rId1"/>
          <a:stretch/>
        </p:blipFill>
        <p:spPr>
          <a:xfrm>
            <a:off x="465120" y="1214280"/>
            <a:ext cx="8496360" cy="502920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3"/>
          <p:cNvSpPr/>
          <p:nvPr/>
        </p:nvSpPr>
        <p:spPr>
          <a:xfrm>
            <a:off x="1003320" y="2367000"/>
            <a:ext cx="715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408f"/>
                </a:solidFill>
                <a:latin typeface="Arial"/>
              </a:rPr>
              <a:t>2.  When you give up something to have something else, you a making a _______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1003320" y="3517920"/>
            <a:ext cx="71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00"/>
                </a:solidFill>
                <a:latin typeface="Arial"/>
              </a:rPr>
              <a:t>Tradeof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section review copy"/>
          <p:cNvPicPr/>
          <p:nvPr/>
        </p:nvPicPr>
        <p:blipFill>
          <a:blip r:embed="rId1"/>
          <a:stretch/>
        </p:blipFill>
        <p:spPr>
          <a:xfrm>
            <a:off x="465120" y="1214280"/>
            <a:ext cx="8496360" cy="50292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3"/>
          <p:cNvSpPr/>
          <p:nvPr/>
        </p:nvSpPr>
        <p:spPr>
          <a:xfrm>
            <a:off x="1003320" y="2367000"/>
            <a:ext cx="715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23408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408f"/>
                </a:solidFill>
                <a:latin typeface="Arial"/>
              </a:rPr>
              <a:t>List the steps in the decision-making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1003320" y="3517920"/>
            <a:ext cx="7157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00"/>
                </a:solidFill>
                <a:latin typeface="Arial"/>
              </a:rPr>
              <a:t>Define the problem, Identify the choices, Evaluate the advantages and disadvantages of each choice, Choose one, Act on your choice, Review your deci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section review copy"/>
          <p:cNvPicPr/>
          <p:nvPr/>
        </p:nvPicPr>
        <p:blipFill>
          <a:blip r:embed="rId1"/>
          <a:stretch/>
        </p:blipFill>
        <p:spPr>
          <a:xfrm>
            <a:off x="465120" y="1214280"/>
            <a:ext cx="8496360" cy="502920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3"/>
          <p:cNvSpPr/>
          <p:nvPr/>
        </p:nvSpPr>
        <p:spPr>
          <a:xfrm>
            <a:off x="1003320" y="2367000"/>
            <a:ext cx="715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408f"/>
                </a:solidFill>
                <a:latin typeface="Arial"/>
              </a:rPr>
              <a:t>4.  Which country is the largest producer of goods and servi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1003320" y="3517920"/>
            <a:ext cx="71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00"/>
                </a:solidFill>
                <a:latin typeface="Arial"/>
              </a:rPr>
              <a:t>U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An Abundance of Wants and Needs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42260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Wa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nee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termine what products and services businesses prov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key terms box"/>
          <p:cNvPicPr/>
          <p:nvPr/>
        </p:nvPicPr>
        <p:blipFill>
          <a:blip r:embed="rId1"/>
          <a:stretch/>
        </p:blipFill>
        <p:spPr>
          <a:xfrm>
            <a:off x="4627440" y="1913040"/>
            <a:ext cx="4383360" cy="41878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4932360" y="269388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3d"/>
                </a:solidFill>
                <a:latin typeface="Arial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gs that are required in order to l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4932360" y="415908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3d"/>
                </a:solidFill>
                <a:latin typeface="Arial"/>
              </a:rPr>
              <a:t>w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gs that add comfort and pleasure to your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Needs and Wants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needs and wants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5105520" y="1733400"/>
            <a:ext cx="2514600" cy="16765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590400" y="4476600"/>
            <a:ext cx="699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fortunately, they never en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7543800" y="2857680"/>
            <a:ext cx="12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fini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How do you satisfy your needs and wants?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ying Goods and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The U.S. Economy – some facts    pg. 7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ess who is the largest producer of goods and services in the worl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p, the U.S.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ess who consumes more than any other count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p, the U.S.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flagwave1"/>
          <p:cNvPicPr/>
          <p:nvPr/>
        </p:nvPicPr>
        <p:blipFill>
          <a:blip r:embed="rId3"/>
          <a:stretch/>
        </p:blipFill>
        <p:spPr>
          <a:xfrm>
            <a:off x="5481720" y="4657680"/>
            <a:ext cx="2938320" cy="1641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The U.S. Economy – some facts    pg. 8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ess who has twice as many shopping malls as they do high schoo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p, the U.S.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ess who produces more pounds of garbage per person per ye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p, the U.S.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flagwave1"/>
          <p:cNvPicPr/>
          <p:nvPr/>
        </p:nvPicPr>
        <p:blipFill>
          <a:blip r:embed="rId3"/>
          <a:stretch/>
        </p:blipFill>
        <p:spPr>
          <a:xfrm>
            <a:off x="4967280" y="5076720"/>
            <a:ext cx="2409840" cy="1347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Satisfying Wants and Needs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6060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es provide </a:t>
            </a: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goo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servi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satisfy the wants and needs of businesses and consum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key terms box"/>
          <p:cNvPicPr/>
          <p:nvPr/>
        </p:nvPicPr>
        <p:blipFill>
          <a:blip r:embed="rId1"/>
          <a:stretch/>
        </p:blipFill>
        <p:spPr>
          <a:xfrm>
            <a:off x="4627440" y="1913040"/>
            <a:ext cx="4383360" cy="418788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4932360" y="272088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3d"/>
                </a:solidFill>
                <a:latin typeface="Arial"/>
              </a:rPr>
              <a:t>g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gs that you can see and touch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an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4932360" y="378612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3d"/>
                </a:solidFill>
                <a:latin typeface="Arial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activities that are consumed at the same time they are produced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tangi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2T22:01:37Z</dcterms:created>
  <dc:creator>Nigel Wright</dc:creator>
  <dc:description/>
  <dc:language>en-US</dc:language>
  <cp:lastModifiedBy>bstromes</cp:lastModifiedBy>
  <dcterms:modified xsi:type="dcterms:W3CDTF">2014-09-16T11:12:10Z</dcterms:modified>
  <cp:revision>90</cp:revision>
  <dc:subject/>
  <dc:title>Slide 1</dc:title>
</cp:coreProperties>
</file>